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C5E-2BB4-4829-8A46-72F0E19C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384-9662-45CE-8A0F-710F64C3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567-3109-4424-959E-3C6DAA93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5F0-2F50-4A4B-A4E7-5379F4A5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9CC-9A80-491E-84BD-D8636B7E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9A0A-0341-4950-B959-8C551D44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E787-89EF-4D7E-8ED8-FD0D89D8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56ED-6E85-4669-9A6E-7FD4E162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55E0-C442-414F-BADF-68877823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FACB-78F0-4A64-A90C-80FEED85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0F9D-F423-436A-957B-3181E15D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943-D848-4940-BF24-A420EB6A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87A4-949A-43B2-9272-B8336050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A59A-8B61-446C-9347-4925277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CCF-BB6F-47AD-85B6-57C4E8C4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9036-D73A-4A28-A8D7-3752E038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C267-2076-4814-8520-1D184FB3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420-361C-43F5-8F9E-B80AEEAA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B2F-E468-4A44-B6C9-501529E9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5DE-3C03-4C28-92EF-56F80B3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AD6-FD3E-48BD-A459-18D1CEE4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3D2-2008-4CBE-82A2-5558B776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E96-4E56-4419-BB65-80652C2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F79-DEEC-4B6A-8833-C87A1BE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9E28-4F52-4776-9132-7C469CE889DF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3F57-E80E-4F51-9D4C-F2FDF3ADFBED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367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he Alamo</a:t>
            </a: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By: Aaron Plymir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Essential Ques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y is the battle of the Alamo important in American history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2451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am Houston called for volunteers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James Bowie took charge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et up at Alamo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Only 185 troops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Mexican army - 4000-5000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American had limited resources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53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Explana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The siege lasted 13 days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Alamo was over run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Bought enough time for Sam Houston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Allowed  time to gather men/rescources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Americans later beat Santa Anna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The Republic of Texas formed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191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 Alamo was lo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 fight with Mexico was w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exas became an independent nati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367"/>
                </a:solidFill>
                <a:latin typeface="Tahoma"/>
              </a:rPr>
              <a:t>Allowed for America to expand later</a:t>
            </a:r>
            <a:endParaRPr b="0" lang="en-US" sz="16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4343400"/>
            <a:ext cx="2361960" cy="166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33800" y="4718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67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3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2:36Z</dcterms:created>
  <dc:creator>PA Department of Education</dc:creator>
  <dc:description/>
  <dc:language>en-US</dc:language>
  <cp:lastModifiedBy>PA Department of Education</cp:lastModifiedBy>
  <dcterms:modified xsi:type="dcterms:W3CDTF">2008-05-27T14:43:49Z</dcterms:modified>
  <cp:revision>1</cp:revision>
  <dc:subject/>
  <dc:title>The Alamo </dc:title>
</cp:coreProperties>
</file>